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36D-829C-4369-B6A8-6EFE1EA1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D24-8D29-45B7-BB3C-EAC6D1D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3EE-C4E7-491A-A292-709652EC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F65-FEF8-4554-BF30-CCC9621E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ECC-2329-47A7-AEDE-6C71071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E6B-C4B7-4FD0-89BE-3F01E25C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7B8-E689-42C4-A881-3960C40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18F-AA86-44A1-A08F-1946D67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25F-2930-48BE-A466-EA70964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D89-DB5D-4736-AA48-28509EC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77E-C9BE-4A0B-88DF-A16A5D8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A71-A56A-4F33-9887-CE4C6190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3A7-B520-4927-BF9A-EEFB7D20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4.04: 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swine flu virus tripled in the number of infected patients every week.  If there were only 7 people infected on May 1st, how many people in the US had the virus by June 1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nt: Assume there are 4 weeks in a mo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the eq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 growth or dec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4495680"/>
                <a:ext cx="2667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 and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2590920" y="2743200"/>
                <a:ext cx="3581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·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Ad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compound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3% monthly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990720" y="1143000"/>
                <a:ext cx="2082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factor:   b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100, then SUBTRACT fro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annual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d at 6.7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1066680" y="1066680"/>
                <a:ext cx="20829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angered tiger population of 120,000 decreases by 7% each year.  If we do nothing to change the situation, how many tigers will be left after 5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growth or dec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00 rabbits in a lab.  Due to reproduction, they triple every 2 months.  How many will there be after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$38,000 SUV depreciates by 18.5% every year.  How much would it be worth after 10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g bought a utility trailer in 2007 for $2500.  The trailer depreciates 7% each year.  What is the difference in the trailer’s value of between the years 2011 and 201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amar is breeding hopping ants in an ant farm.  Hopping ants quadruple every 3 months.  If Jamar initially had 10 ants, how many did he have after 3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25:29Z</dcterms:created>
  <dc:creator>Sharon Fieldman</dc:creator>
  <dc:description/>
  <dc:language>en-US</dc:language>
  <cp:lastModifiedBy>sfieldman</cp:lastModifiedBy>
  <dcterms:modified xsi:type="dcterms:W3CDTF">2011-05-12T13:55:53Z</dcterms:modified>
  <cp:revision>11</cp:revision>
  <dc:subject/>
  <dc:title>Goal 4.04: Exponential Functions</dc:title>
</cp:coreProperties>
</file>